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97C-C75C-4274-B706-7EEDD82B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AE6-155C-4AE5-911E-DA5EDA23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DFA2-CEA2-45A7-A701-95B32F2C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9FD-50AA-433C-8629-F0A208A3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357-6F97-4F02-BF29-0C5FDE63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0DE-8BE2-4454-A3D1-97FD164B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EC7-A3AA-467A-A66B-911A2A4A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74F-D6A0-4D31-B774-E4B7377E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AEA0-1E13-4AA0-B1D2-E8DC8A54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614-6B09-41C8-9F78-D4674CC5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954-7134-415F-AD3E-93A95F11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6D7B-91B8-483F-BCC6-F4F98489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EDD5-635E-4D8F-B96F-8F80B04AF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353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ssential Learning Experiences</a:t>
            </a:r>
            <a:br>
              <a:rPr sz="8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 practical thinking and collaborative strategies for engaging (most) students in everyday lea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4653000"/>
            <a:ext cx="7912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ny Ry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nyryan.com.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nyryan@headfirst.com.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7. SWOT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3640" y="1673280"/>
            <a:ext cx="8458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up a 4-square SWOT analysis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a specific issue eg your life; how our sports team operates; financial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list the Strengths (the best th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eaknesses (the worst th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Opportunities (how you could impro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hreats (what is holding you back from implementing those Opportun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46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8. P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18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ide on a topic eg “The Aust govt will immediately double its financial contribution to alleviating poverty in Africa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instorm all of the Plus points for this statement (for at least 2 m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brainstorm all of the Minus points for this statement (for another 2 m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develop a list of any Interesting points you can think of about this topic (a final 2 m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9. B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oose something that you would like to refine (eg a piece of technology; a sport; a process for doing thing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n creatively enhance it with these 3 ste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Make one part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gger or more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d an extra 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place one part with 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0. X-char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up a large X-chart, and place these headings in the 4 sub-se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nd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l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nk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the X-chart to clarify a specific concept eg acceleration; a winning team; jealousy; delinquency; a good politic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1. Ideas Matr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e new products or processes by combining two entirely different concepts 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0160" y="3166920"/>
          <a:ext cx="7340760" cy="2624400"/>
        </p:xfrm>
        <a:graphic>
          <a:graphicData uri="http://schemas.openxmlformats.org/drawingml/2006/table">
            <a:tbl>
              <a:tblPr/>
              <a:tblGrid>
                <a:gridCol w="1835280"/>
                <a:gridCol w="1834920"/>
                <a:gridCol w="1835280"/>
                <a:gridCol w="183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p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b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co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st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. Discuss: Publish: Shop: Ref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 into groups of 4, and go through this proce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cu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ll of your different responses to the question being add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ubli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collection of these, and place your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raft on a larg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ho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ideas from the other groups in the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f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finish off your plan back in your own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3. Listening Bo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use this strategy to show your work to other students, one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Upon completion of your work, draw a window with 4 squares in the top corner of your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Quietly moving around the room, explain your work to another stu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The person who is listening then writes your name into one of the 4 squ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n the few minutes of this activity, you are to listen to at least 4 other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4. Teleph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280" y="1341000"/>
            <a:ext cx="7993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vide into pai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person will be given some separate information to learn (or to resear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. Learn your own in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. Teach it to your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3. Then tell your partner what you have learned from him / 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5. Continu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up a clear statement eg Goldilocks was a juvenile delinqu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’ll now set up a line around the room, with Yes at one end, and No at the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nd in a place on the line that indicates where you ‘stand’ on this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pair off (eg one person from one end, with one person from the other) and convince the other person about your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6. Attribute Lis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am of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given 4 post-it notes (every team gets a different colo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your team, decide on your 4 best answers to this ques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. …..(best ever hero? Favourite author? The questions you’d most like to ask about our work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 them in on your post-it notes, and place them in a horizontal row on the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other team then places their sticky notes up on the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ever, if you have a similar answer to another team, place it in a vertical row under that previous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are they about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Learning Experiences are designed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ag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tudents in thei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wish, rewrite them to suit your specific lesson, and inject your lesson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can be used in a number of wa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As stand-alone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By linking several into a full less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By including them in a Powerpoint that is used during a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7. Academic Controvers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a type of debate that we do in small t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tep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Form into teams of 4, and appoint two ‘yes’ and two ‘no’ represent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topic is: (This is to be written as a statement eg All boys and girls are to attend separate school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4000" y="190080"/>
            <a:ext cx="8820000" cy="66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Conduct your research, and write out the yes and no arguments (depending on which side you’re 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Present your arguments to the other pa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Now change sides, and present the other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Drop the yes and no, and determine your group’s final response to the top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Mark your group’s final decision on a Yes / No l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8. Paired Interview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19280" y="126828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eak into pairs (A and 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e are 3 questions for yo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……………………………………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……………………………………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……………………………………..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egins by asking B the 3 questions, one at a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 then asks A the 3 ques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member: It’s an interview, not a discu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5110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. Rubric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51832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up a simple matrix, with the criteria for your task down the side, and the Nos 1 to 3 (for your standards) along the 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ide on the different criteria (eg degree of originality with your Powerpoin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n write the standards (from 1 to 3) for each of those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you work through your task, evaluate your efforts with thes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. Learning analy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re are two sets of questions we can use to evaluate our 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ould I / we have done more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ould I / we have done less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t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I / we do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ould I / we have done different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. Going Shopp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9200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ete your task / project in your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play your work on a large sheet, and place the sheet 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oint a salesperson from your team, who will stay with the sh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 other team members then go shopping for ideas from other t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. Brainstorm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4320" y="1197000"/>
            <a:ext cx="85993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 ideas by yourself, in small teams, or as a whol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ide on a topic eg How to encourage people to donate blood to the Red 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ke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up with lots of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no judgment on any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courage ridiculous ide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g onto any other ideas you 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. Team Self-Regul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assume that your team is going to be sens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 the end of this activity, you will be asked to report on the quality of your work, by using some specific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ould be the criteria for an analysis of your efforts 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gree of initiative / creativ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at listen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 of eng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. Venn diagra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8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w the Venn diagram with 2, 3 or even 4 interconnecting circles, and then fill in the spaces with overlapping knowledge / persp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example, you could comp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novelists with their perspectives o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students with activities they enj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self with 2 famous people in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. Simple Jigsa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vide into groups of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 activities / questions are placed on th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groups, each student chooses a number (from 1 to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ach student completes his / her specific activity or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ning to the other team members, each then describes the answer / response that he / she develo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. Expert Jigsa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Set up 4 questions / activities (eg 4 math problems; 4 questions that address a specific issue in a nov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3551400"/>
            <a:ext cx="72010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47592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ganise into Home teams (with 4 in each tea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student chooses a specific qu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one then moves into an Expert Team (eg all No 1s, No 2s, and so 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cuss that question in your Expert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 return to your Home team, and explain your answers to your Home team 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11-28T20:09:41Z</dcterms:modified>
  <cp:revision>54</cp:revision>
  <dc:subject/>
  <dc:title>PowerPoint Presentation</dc:title>
</cp:coreProperties>
</file>